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D63B-15DF-4DE8-8617-C5F26DBE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6AC3-1593-4DC3-BFC1-4DDF4915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E409-6A15-4526-BF08-0370E478B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CB32-77EE-48AE-A8A7-E12836F12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1F25-5AF7-43FE-AD8B-AB884C31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732E-FB52-4747-BB64-4E66952C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845A-E2D2-4BEB-9EE5-5CEA465F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B65A-504B-4A51-B3A1-A7BED2C2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B9C5-F7AE-41A1-8311-F66CCC27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EEA2-BF82-42A8-A95C-22D46844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CC72-CAAF-4C87-8CAD-9842F9FA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C4AF-A441-4AF5-821C-0C0A4AA1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D538-E535-4533-B193-44D78FA7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9979-36F6-40DB-8795-E206987B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A736-A3E1-4848-9494-98E144B9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527A-2F7A-49C1-A3B4-A3F383584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7392-3D71-4974-9509-5E23541D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92104-CB20-4099-9C97-A4F3709AE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744D5-B5FA-4AB0-B7D6-5E920524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183FE-2CCD-4476-A2DE-1324E9F9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1B18D-60C3-453D-953F-4BA11A41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0651F-5D69-4E68-B89E-323801F2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1B59-9DC7-4F45-8478-968E2798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BD839-7645-49D2-9A3E-21093B85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39471-865E-4C5E-B1C4-A03437B7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B8085-5011-4D5E-B2FE-73C32EC3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2A7C4-9C47-45B4-B105-25D1BDFD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BCF32-582B-4D98-99B1-2EADAEB5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DBD02-3D31-40B8-8E73-FEE5C854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71C1B-A643-439C-B969-380675659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3412C-80DE-453F-B9EC-D81EBC6F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29463-6BC3-48CB-8E52-7EFFF6F3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40B80-68DE-4EB3-8117-ADD638D1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2084-3ABD-44EF-8BC5-D6A0490E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86A23-2225-40D6-A235-04886E8A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0ED55-B820-4957-BE48-BF10A661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2D43A-0E85-4C6A-B6EB-DE0CEF19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5182B-D832-4EC0-AB48-E76C004B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3918B-AAE4-4C27-A95F-6731F816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350E1-8F6C-47D8-9B2B-CAB9D374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C004C-6C4A-4DCB-B196-263DB54B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3C10B-12E5-4821-89C9-F8F0248A8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83D31-AFB2-4544-9FB1-F4C7B4F4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71FAA-1AEA-4A62-BF5A-22812785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C94C-4154-4CC1-9560-EA528312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400F8-B5B9-45A1-BD42-EF4955D7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DF1F9-FF02-4063-855D-15107F0E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0F6FD-D571-452B-AB97-DAD36FF6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1204F-48EF-4058-8271-C52BCCB1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CBDD9-B9AA-4395-9E83-31535A4A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9D492-1B4F-41D1-9BF0-5061922A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F9CC4-4A0F-4EB7-9251-C39003CE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3D4E8-7D61-452C-B07E-AB9F1B8E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706D9-2162-4852-8A22-1D10D1E4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D0EBD-2D66-4A16-9A83-B7CA2ABBE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391F-1254-4517-872E-932979B5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7C24E-0D0A-4F51-A8A9-1DCD6967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67A1D-8482-49C1-9BD4-D6EB84F5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BF3F0-EF89-4C2B-9D4C-5D100618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6A01B-D59C-4359-9BF2-0DEA8605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8D977-CE43-4DDF-B58C-03ED2A02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2740F-C03F-4B61-B128-BFDE5AB1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E2112-6050-4D59-8419-B539E7FE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A250E-84C6-46FA-8F78-B5D7D784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7171C-7C44-44C9-A869-4DF8B3A4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832A5-0332-4622-9AE5-8AB682D5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B0A9-CF99-41B9-9D69-BF49857B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64E5E-3662-4499-863E-824509D5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3D712-9AB7-41C2-91B5-AF6CF4E5A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54240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170040" y="157140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914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54240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170040" y="4070520"/>
            <a:ext cx="25023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F2593-750D-428F-BE39-57F5742D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407052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49AC-98F5-430F-8CC2-4F98F8F8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571400"/>
            <a:ext cx="3792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4070520"/>
            <a:ext cx="77724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4C1C-265C-4745-BD87-64564619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21420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C10C-5EE2-4D22-AE8F-EE483B4CBBBE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19"/>
          <p:cNvSpPr/>
          <p:nvPr/>
        </p:nvSpPr>
        <p:spPr>
          <a:xfrm flipH="1">
            <a:off x="135000" y="1440"/>
            <a:ext cx="1440" cy="6858000"/>
          </a:xfrm>
          <a:prstGeom prst="line">
            <a:avLst/>
          </a:prstGeom>
          <a:ln w="12600">
            <a:solidFill>
              <a:srgbClr val="350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Straight Connector 11"/>
          <p:cNvSpPr/>
          <p:nvPr/>
        </p:nvSpPr>
        <p:spPr>
          <a:xfrm flipH="1">
            <a:off x="184320" y="0"/>
            <a:ext cx="1440" cy="6858000"/>
          </a:xfrm>
          <a:prstGeom prst="line">
            <a:avLst/>
          </a:prstGeom>
          <a:ln w="12600">
            <a:solidFill>
              <a:srgbClr val="350f4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Straight Connector 14"/>
          <p:cNvSpPr/>
          <p:nvPr/>
        </p:nvSpPr>
        <p:spPr>
          <a:xfrm flipH="1">
            <a:off x="243000" y="0"/>
            <a:ext cx="1440" cy="6858000"/>
          </a:xfrm>
          <a:prstGeom prst="line">
            <a:avLst/>
          </a:prstGeom>
          <a:ln w="32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Straight Connector 17"/>
          <p:cNvSpPr/>
          <p:nvPr/>
        </p:nvSpPr>
        <p:spPr>
          <a:xfrm flipH="1">
            <a:off x="9128160" y="0"/>
            <a:ext cx="1440" cy="6858000"/>
          </a:xfrm>
          <a:prstGeom prst="line">
            <a:avLst/>
          </a:prstGeom>
          <a:ln w="284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5"/>
          <p:cNvSpPr/>
          <p:nvPr/>
        </p:nvSpPr>
        <p:spPr>
          <a:xfrm>
            <a:off x="0" y="0"/>
            <a:ext cx="21420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Straight Connector 19"/>
          <p:cNvSpPr/>
          <p:nvPr/>
        </p:nvSpPr>
        <p:spPr>
          <a:xfrm flipH="1">
            <a:off x="135000" y="1440"/>
            <a:ext cx="1440" cy="6858000"/>
          </a:xfrm>
          <a:prstGeom prst="line">
            <a:avLst/>
          </a:prstGeom>
          <a:ln w="12600">
            <a:solidFill>
              <a:srgbClr val="350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Straight Connector 11"/>
          <p:cNvSpPr/>
          <p:nvPr/>
        </p:nvSpPr>
        <p:spPr>
          <a:xfrm flipH="1">
            <a:off x="184320" y="0"/>
            <a:ext cx="1440" cy="6858000"/>
          </a:xfrm>
          <a:prstGeom prst="line">
            <a:avLst/>
          </a:prstGeom>
          <a:ln w="12600">
            <a:solidFill>
              <a:srgbClr val="350f4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Straight Connector 14"/>
          <p:cNvSpPr/>
          <p:nvPr/>
        </p:nvSpPr>
        <p:spPr>
          <a:xfrm flipH="1">
            <a:off x="243000" y="0"/>
            <a:ext cx="1440" cy="6858000"/>
          </a:xfrm>
          <a:prstGeom prst="line">
            <a:avLst/>
          </a:prstGeom>
          <a:ln w="32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Straight Connector 17"/>
          <p:cNvSpPr/>
          <p:nvPr/>
        </p:nvSpPr>
        <p:spPr>
          <a:xfrm flipH="1">
            <a:off x="9128160" y="0"/>
            <a:ext cx="1440" cy="6858000"/>
          </a:xfrm>
          <a:prstGeom prst="line">
            <a:avLst/>
          </a:prstGeom>
          <a:ln w="284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8429760" y="3357720"/>
            <a:ext cx="21420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6"/>
          <p:cNvSpPr/>
          <p:nvPr/>
        </p:nvSpPr>
        <p:spPr>
          <a:xfrm>
            <a:off x="7286760" y="2786040"/>
            <a:ext cx="21420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7286760" y="3357720"/>
            <a:ext cx="21420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0"/>
          <p:cNvSpPr/>
          <p:nvPr/>
        </p:nvSpPr>
        <p:spPr>
          <a:xfrm>
            <a:off x="7572240" y="2786040"/>
            <a:ext cx="21456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7572240" y="3357720"/>
            <a:ext cx="21456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4"/>
          <p:cNvSpPr/>
          <p:nvPr/>
        </p:nvSpPr>
        <p:spPr>
          <a:xfrm>
            <a:off x="7858080" y="2786040"/>
            <a:ext cx="21420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5"/>
          <p:cNvSpPr/>
          <p:nvPr/>
        </p:nvSpPr>
        <p:spPr>
          <a:xfrm>
            <a:off x="7858080" y="3357720"/>
            <a:ext cx="21420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6"/>
          <p:cNvSpPr/>
          <p:nvPr/>
        </p:nvSpPr>
        <p:spPr>
          <a:xfrm>
            <a:off x="8429760" y="2786040"/>
            <a:ext cx="21420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27"/>
          <p:cNvSpPr/>
          <p:nvPr/>
        </p:nvSpPr>
        <p:spPr>
          <a:xfrm>
            <a:off x="8143920" y="3357720"/>
            <a:ext cx="214200" cy="214200"/>
          </a:xfrm>
          <a:prstGeom prst="rect">
            <a:avLst/>
          </a:prstGeom>
          <a:solidFill>
            <a:srgbClr val="ae3ad1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8"/>
          <p:cNvSpPr/>
          <p:nvPr/>
        </p:nvSpPr>
        <p:spPr>
          <a:xfrm>
            <a:off x="8143920" y="2786040"/>
            <a:ext cx="214200" cy="214200"/>
          </a:xfrm>
          <a:prstGeom prst="rect">
            <a:avLst/>
          </a:prstGeom>
          <a:solidFill>
            <a:srgbClr val="230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29"/>
          <p:cNvSpPr/>
          <p:nvPr/>
        </p:nvSpPr>
        <p:spPr>
          <a:xfrm>
            <a:off x="7572240" y="3071880"/>
            <a:ext cx="21456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30"/>
          <p:cNvSpPr/>
          <p:nvPr/>
        </p:nvSpPr>
        <p:spPr>
          <a:xfrm>
            <a:off x="7858080" y="3071880"/>
            <a:ext cx="21420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31"/>
          <p:cNvSpPr/>
          <p:nvPr/>
        </p:nvSpPr>
        <p:spPr>
          <a:xfrm>
            <a:off x="8429760" y="3071880"/>
            <a:ext cx="21420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32"/>
          <p:cNvSpPr/>
          <p:nvPr/>
        </p:nvSpPr>
        <p:spPr>
          <a:xfrm>
            <a:off x="8143920" y="3071880"/>
            <a:ext cx="21420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33"/>
          <p:cNvSpPr/>
          <p:nvPr/>
        </p:nvSpPr>
        <p:spPr>
          <a:xfrm>
            <a:off x="7286760" y="3071880"/>
            <a:ext cx="214200" cy="214200"/>
          </a:xfrm>
          <a:prstGeom prst="rect">
            <a:avLst/>
          </a:prstGeom>
          <a:solidFill>
            <a:srgbClr val="350f4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018A-516B-454A-BE53-EB957BC6EBE4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5"/>
          <p:cNvSpPr/>
          <p:nvPr/>
        </p:nvSpPr>
        <p:spPr>
          <a:xfrm>
            <a:off x="0" y="0"/>
            <a:ext cx="21420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Straight Connector 19"/>
          <p:cNvSpPr/>
          <p:nvPr/>
        </p:nvSpPr>
        <p:spPr>
          <a:xfrm flipH="1">
            <a:off x="135000" y="1440"/>
            <a:ext cx="1440" cy="6858000"/>
          </a:xfrm>
          <a:prstGeom prst="line">
            <a:avLst/>
          </a:prstGeom>
          <a:ln w="12600">
            <a:solidFill>
              <a:srgbClr val="350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Straight Connector 11"/>
          <p:cNvSpPr/>
          <p:nvPr/>
        </p:nvSpPr>
        <p:spPr>
          <a:xfrm flipH="1">
            <a:off x="184320" y="0"/>
            <a:ext cx="1440" cy="6858000"/>
          </a:xfrm>
          <a:prstGeom prst="line">
            <a:avLst/>
          </a:prstGeom>
          <a:ln w="12600">
            <a:solidFill>
              <a:srgbClr val="350f4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Straight Connector 14"/>
          <p:cNvSpPr/>
          <p:nvPr/>
        </p:nvSpPr>
        <p:spPr>
          <a:xfrm flipH="1">
            <a:off x="243000" y="0"/>
            <a:ext cx="1440" cy="6858000"/>
          </a:xfrm>
          <a:prstGeom prst="line">
            <a:avLst/>
          </a:prstGeom>
          <a:ln w="32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traight Connector 17"/>
          <p:cNvSpPr/>
          <p:nvPr/>
        </p:nvSpPr>
        <p:spPr>
          <a:xfrm flipH="1">
            <a:off x="9128160" y="0"/>
            <a:ext cx="1440" cy="6858000"/>
          </a:xfrm>
          <a:prstGeom prst="line">
            <a:avLst/>
          </a:prstGeom>
          <a:ln w="2844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Straight Connector 12"/>
          <p:cNvSpPr/>
          <p:nvPr/>
        </p:nvSpPr>
        <p:spPr>
          <a:xfrm>
            <a:off x="714240" y="5276880"/>
            <a:ext cx="7500960" cy="1440"/>
          </a:xfrm>
          <a:prstGeom prst="line">
            <a:avLst/>
          </a:prstGeom>
          <a:ln w="9360">
            <a:solidFill>
              <a:srgbClr val="ffff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72C7-022A-4101-86CF-72844156DEE1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998D-C678-4CE6-930C-84508A5199DF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44B9-A46C-41BE-BFBF-4FA0BCFB5462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3f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92406e"/>
              </a:buClr>
              <a:buSzPct val="85000"/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d59f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3bfd3"/>
              </a:buClr>
              <a:buSzPct val="65000"/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1df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2406e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6477120" y="64209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d2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914400" y="642096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610480" y="64209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d2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AC31-2E80-428A-B2B6-5B3C91DF5153}" type="slidenum">
              <a:rPr b="0" lang="en-US" sz="1200" spc="-1" strike="noStrike">
                <a:solidFill>
                  <a:srgbClr val="ffffd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Title 1" descr=""/>
          <p:cNvPicPr/>
          <p:nvPr/>
        </p:nvPicPr>
        <p:blipFill>
          <a:blip r:embed="rId1"/>
          <a:stretch/>
        </p:blipFill>
        <p:spPr>
          <a:xfrm>
            <a:off x="907920" y="390600"/>
            <a:ext cx="7785360" cy="1041480"/>
          </a:xfrm>
          <a:prstGeom prst="rect">
            <a:avLst/>
          </a:prstGeom>
          <a:ln w="0">
            <a:noFill/>
          </a:ln>
        </p:spPr>
      </p:pic>
      <p:pic>
        <p:nvPicPr>
          <p:cNvPr id="278" name="Content Placeholder 5" descr=""/>
          <p:cNvPicPr/>
          <p:nvPr/>
        </p:nvPicPr>
        <p:blipFill>
          <a:blip r:embed="rId2"/>
          <a:stretch/>
        </p:blipFill>
        <p:spPr>
          <a:xfrm>
            <a:off x="895320" y="1536840"/>
            <a:ext cx="781524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Title 2" descr=""/>
          <p:cNvPicPr/>
          <p:nvPr/>
        </p:nvPicPr>
        <p:blipFill>
          <a:blip r:embed="rId1"/>
          <a:stretch/>
        </p:blipFill>
        <p:spPr>
          <a:xfrm>
            <a:off x="907920" y="390600"/>
            <a:ext cx="7785360" cy="1041480"/>
          </a:xfrm>
          <a:prstGeom prst="rect">
            <a:avLst/>
          </a:prstGeom>
          <a:ln w="0">
            <a:noFill/>
          </a:ln>
        </p:spPr>
      </p:pic>
      <p:pic>
        <p:nvPicPr>
          <p:cNvPr id="280" name="Content Placeholder 4" descr=""/>
          <p:cNvPicPr/>
          <p:nvPr/>
        </p:nvPicPr>
        <p:blipFill>
          <a:blip r:embed="rId2"/>
          <a:stretch/>
        </p:blipFill>
        <p:spPr>
          <a:xfrm>
            <a:off x="841320" y="1566720"/>
            <a:ext cx="7905960" cy="47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4:47:29Z</dcterms:created>
  <dc:creator>Corri Baker</dc:creator>
  <dc:description/>
  <dc:language>en-US</dc:language>
  <cp:lastModifiedBy>Corri Baker</cp:lastModifiedBy>
  <dcterms:modified xsi:type="dcterms:W3CDTF">2009-04-13T04:16:58Z</dcterms:modified>
  <cp:revision>24</cp:revision>
  <dc:subject/>
  <dc:title>Promethean Information</dc:title>
</cp:coreProperties>
</file>